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0B6-25EF-4EC8-8772-DBA606A1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023-BB48-424A-93A7-3B492DEF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841-949D-44D1-9362-1DE5BD21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FB3-A4B9-4A36-990E-E084DD6D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9D7F-5292-484E-978F-4FB8C2C3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85A1-8830-4B9F-AF66-F516084E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CD7E-2997-4EA3-8F4A-F7DB8CAE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1606-14B4-4660-A477-D05AF06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16A6-C9DF-4D3C-99EB-47FC3FA9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A942-58AB-4FD4-B3D0-86A5DD59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E089-278F-4398-8B8B-42199BA0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4EE-61B9-4918-9594-B75A106F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CFBD-C6A0-4AFB-B3A6-450F39E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1F79-06D9-42A3-AB8B-7F480E27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3CD3-DB0D-4B4A-BA84-9D8D0DD4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8A63-947E-440B-962F-67597A39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6E23-8463-4938-80FC-B402F21B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592-4AFB-4609-AC6F-18B4AE2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882-43D3-43E5-A40E-0964982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9F8-D3A6-4F7E-88A6-276C183F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AE9-EA98-48D0-8A10-0EBEE103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8A5-F2B2-4D76-840C-D717277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813-FEDC-4F0B-A579-4B85EFF3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10A-90EB-4B95-BB5C-7348E274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90E1-3069-4301-9C51-80F2A3993B8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1C32-F024-4B20-9907-3FFD323D25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ostyor.ru/history/fla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ostyor.ru/history/gerb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0167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КОНСТИТУЦИЯ</a:t>
            </a: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РОССИЙСКОЙ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dbbd71"/>
                </a:solidFill>
                <a:latin typeface="Arial"/>
              </a:rPr>
              <a:t>ФЕДЕРАЦИИ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Что такое “право” и что такое “обязанность”? В чем их различие?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” - это то, что государство гарантирует дать своим гражданам, а вот “обязанность”, наоборот, - это то, что граждане гарантируют дать своему государству. В этом и состоит их различ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78343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тья 1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рава и свободы человека принадлежат каждому от р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тья 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жиз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340000" y="3789360"/>
            <a:ext cx="2303280" cy="160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584360" cy="2376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468360" y="260280"/>
            <a:ext cx="83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тья 2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Каждый имеет право на свободу и личную неприкоснов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тья 2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Жилище неприкосновенно. Никто не вправе проникать в жилище против воли проживающих в нём л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0" t="3357" r="0" b="0"/>
          <a:stretch/>
        </p:blipFill>
        <p:spPr>
          <a:xfrm>
            <a:off x="3924360" y="3357720"/>
            <a:ext cx="3816360" cy="26114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37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труд, право выбирать род деятельности и профессию. Каждый имеет право на отд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62888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5219640" y="3417840"/>
            <a:ext cx="3673440" cy="27018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0503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3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ья находится под защитой государства. Забота о детях, их воспитание – право и обязанность родителей. Дети, достигшие 18 лет, должны заботиться о нетрудоспособных родител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403280" y="4221000"/>
            <a:ext cx="2376720" cy="1640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2087640" cy="1955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7689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41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охрану здоровья и медицинскую помощ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332000" y="2583000"/>
            <a:ext cx="2592360" cy="174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2665440" cy="1944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77612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43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имеет право на 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2057400" cy="2800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2754360" cy="162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5003640" y="4508640"/>
            <a:ext cx="2737080" cy="15253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6183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5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обязан сохранять природу и окружающую среду, бережно относиться к природным богат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2990880" cy="217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3024360" cy="20858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026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59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а Отечества является долгом и обязанностью гражданин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1866960" cy="2951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3059280" y="3284640"/>
            <a:ext cx="3024000" cy="1938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2217600" cy="22320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70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флаг, герб и гимн Российской Федерации устанавливаются федеральным законом. Столицей Российской Федерации является город Мос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286080" cy="2190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816280" cy="3311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561000" y="3500280"/>
            <a:ext cx="2583000" cy="3357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ОНСТИТУЦИЯ   РОССИЙС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ФЕДЕРАЦИИ  –  ОСНОВНОЙ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ЗАКОН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1895400" cy="28288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790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СКВА  –  СТОЛИЦА 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1887480" cy="25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5940360" y="4780080"/>
            <a:ext cx="2592360" cy="192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516720" y="1628640"/>
            <a:ext cx="1825560" cy="244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3635280" y="1484280"/>
            <a:ext cx="2054160" cy="1709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6"/>
          <a:stretch/>
        </p:blipFill>
        <p:spPr>
          <a:xfrm>
            <a:off x="3564000" y="3573360"/>
            <a:ext cx="2233440" cy="16718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186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80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идент Российской Федерации является главой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5429520" cy="41324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00000" y="259920"/>
            <a:ext cx="7848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111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едатель Правительства Российской Федерации назначается Президентом Российской Федерации с согласия Государственной Ду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2357280" y="2857680"/>
            <a:ext cx="3934080" cy="40003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ahoma"/>
              </a:rPr>
              <a:t>Статья 118</a:t>
            </a:r>
            <a:r>
              <a:rPr b="0" lang="ru-RU" sz="3200" spc="-1" strike="noStrike">
                <a:solidFill>
                  <a:srgbClr val="808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судие в Российской Федерации осуществляется только су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5832360" cy="2103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804000" y="1484280"/>
            <a:ext cx="2157480" cy="515304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834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оссийской Федерации вступает в силу со дня официального его опубликования по результатам народного голос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всенародного голосования 12 декабря 1993 года считается днём принятия Конституции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азное время в нашей стране были приняты три Конститу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1924 году                            в 1936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1977 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1600200" cy="2228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1704960" cy="2190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3708360" y="4705200"/>
            <a:ext cx="1381320" cy="21528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3"/>
          <p:cNvSpPr txBox="1"/>
          <p:nvPr/>
        </p:nvSpPr>
        <p:spPr>
          <a:xfrm>
            <a:off x="2700360" y="404640"/>
            <a:ext cx="432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оль Конституци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363600" y="1341360"/>
            <a:ext cx="835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1.Обеспечивает ставильность в обществе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363600" y="2222640"/>
            <a:ext cx="8353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2.Обеспечивает легитимность и преемственность власти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363600" y="3105000"/>
            <a:ext cx="835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3.Закрепляет политическую, социальную и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экономическую основу общества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1" name="WordArt 7"/>
          <p:cNvSpPr txBox="1"/>
          <p:nvPr/>
        </p:nvSpPr>
        <p:spPr>
          <a:xfrm>
            <a:off x="365040" y="4533840"/>
            <a:ext cx="8353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4.Определяет политический и правовой режимы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2" name="WordArt 8"/>
          <p:cNvSpPr txBox="1"/>
          <p:nvPr/>
        </p:nvSpPr>
        <p:spPr>
          <a:xfrm>
            <a:off x="365040" y="5416560"/>
            <a:ext cx="8353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5.закрепляет национальное и территориально-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осударственное устройство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осударственный флаг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Picture 3" descr="Флаг Российской Федера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514600"/>
            <a:ext cx="3886200" cy="2646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та принятия: 08.12.20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енный флаг Российской Федерации – это прямоугольное полотнище трех равновеликих горизонтальных полос: верхней – белого цвета, средней – синего, а нижней – красного цве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ерб Российской Федерации (герб России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560" y="4572000"/>
            <a:ext cx="5105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ый герб Росс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29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ел увенчан двумя малыми коронами и – над ними – одной большой короной, соединенными лентой. В правой лапе орла – скипетр, в левой – держава. На груди орла в красном щите – серебряный всадник в синем плаще на серебряном коне, поражающий серебряным копьем черного, опрокинутого навзничь и попранного конем драк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ата принят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20.12.200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Герб Российской Федера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600200"/>
            <a:ext cx="2205000" cy="2666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Гимн Российской Федерации (гимн России)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(слова С.Михалкова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-й куплет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ссия — священная наша держава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ссия — любимая наша стран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гучая воля, великая слава —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вое достоянье на все времен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-й куплет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 южных морей до полярного края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кинулись наши леса и поля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дна ты на свете! Одна ты такая —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Хранимая Богом родная земля!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-й куплет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ирокий простор для мечты и для жизн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рядущие нам открывают год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м силу дает наша верность Отчизне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ак было, так есть и так будет всегда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Отечество наше свободно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атских народов союз вековой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ками данная мудрость народная!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ься, страна! Мы гордимся тобой!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о декабря 2000 г. государственным гимном Российской Федерации являлась мелодия, созданная на основе «Патриотической песни» М.И.Глинк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та принятия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07.03.2001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 Конститу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ереводе с латинского языка слово “конституция” обозначает “устройство”, то есть то, как устраивается, строится государство. В нашей стране много законов, но главным законом нашего государства, основные правила по которым мы живем, записаны в Конституции. В знак уважения к основному закону страны слово “Конституция” пишется с заглавной бук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Россия есть единое многонациональное демократическое государство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 толковом словаре написано, что “демократия” в переводе с греческого языка переводится как “народ” и “власть” или “народовластие”. Значит, в нашей стране народу принадлежит власть, и он может участвовать в управлении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езидент Росс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42670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“президент” в переводе с латинского языка означает “сидящий впереди, во главе”. Действительно, Президент России – это глава нашего государства, который избирается в соответствии с Конституцией Российской Федерации, в которой оговариваются его права и обязанност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идентом Российской Федерации может быть избран гражданин Российской Федерации не моложе 35 лет, постоянно проживающий в Российской Федерации не менее 10 лет”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астоящее время Президентом России является Дмитрий Анатольевич  Медведев, который совместно с Правительством является исполнительной властью государ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тличие от них, Государственная Дума является законодательной властью. Законодательная, то есть, принимающая законы. Она избирается, как и Президент, всенародно на 4 года. В ее состав входят 450 депутатов. В статьях 96 и 97 Конституции указывается на то, что каждый гражданин с 18 лет может выбирать представителей в Государственную Думу и сам может быть избранным в ее состав, если ему 21 г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4322880" cy="29368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ебная власть.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ть осуществляет правосудие, следит за исполнением законов исполнительной и законодательною властями, разрешает конфликты, восстанавливает права, наказывает правонарушителей. Судебная власть осуществляется только судом, как отмечено в статье 118 Конституции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39:35Z</dcterms:created>
  <dc:creator>Шурик</dc:creator>
  <dc:description/>
  <dc:language>en-US</dc:language>
  <cp:lastModifiedBy>Admin</cp:lastModifiedBy>
  <dcterms:modified xsi:type="dcterms:W3CDTF">2013-12-04T04:28:14Z</dcterms:modified>
  <cp:revision>15</cp:revision>
  <dc:subject/>
  <dc:title>КОНСТИТУЦИЯ  РОССИЙСКОЙ ФЕДЕРАЦИИ</dc:title>
</cp:coreProperties>
</file>